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B9C-AD0D-4C7B-83BA-7EE004D7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70AA-A7DC-4C53-96C8-83993E6B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1D1-DAAE-4D2E-8F8B-86D001AE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1E8-47B7-4AA5-9877-70850C78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B442-E300-4DCD-AA54-48E19748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426F-AD78-4C9A-A24A-0C9A2D83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7CAE-E50C-4BF9-8CC3-DFD468D1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4BCD-EC9E-4436-80C5-5ED79AC8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B08-77D1-4665-A10F-09727F96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9633-A172-401E-B51E-CCAF59A3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B788-A009-4AD1-9A8D-A8BD95A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9507-5AFC-471D-8DA7-321FAB04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362C-A16B-4AC3-A53E-3C4FD89C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EA7F-B0C3-4557-A113-DC41CC6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EE45-51C6-41F4-87C0-04E4510C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B87E-B783-4760-A7A2-F93DBC6F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AC3C-F7C1-4B89-B196-C79CF3ED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88B7-0AC1-4522-AC51-E21C21A3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B2B-E450-44BD-BADA-185FAD18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00BA-678B-44B7-80C2-714EC1F7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A8E-0DE2-4FCE-9BF2-F4682C12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87D-4AE6-42E7-BC0E-9317E86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E634-AAA0-4996-ADBF-944067A0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078-C078-40A4-A7FE-0F87076C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EED6-F236-4E88-9A2F-C08EF389B8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7575-6DD4-4F9F-A3C1-D9CF78A314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7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5e25"/>
                </a:solidFill>
                <a:latin typeface="Times New Roman"/>
              </a:rPr>
              <a:t>ПОТОКИ ВЕЩЕСТВА И ЭНЕРГИИ В ЭКОСИСТЕМЕ</a:t>
            </a:r>
            <a:endParaRPr b="1" lang="en-US" sz="44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867920"/>
            <a:ext cx="59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Энергия не возникает из ничего и не превращается ни во что, но из одного вида может превратиться в другое и передаваться от одного тела другому»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20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разных пищевых цепей в лесном (озерном, степном) сообществах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21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происходят при переходе с одного трофического уровня на другой?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УГОВОРОТ ВЕЩЕСТВ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3516" t="24519" r="12520" b="41248"/>
          <a:stretch/>
        </p:blipFill>
        <p:spPr>
          <a:xfrm>
            <a:off x="395280" y="1484280"/>
            <a:ext cx="4643280" cy="41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ЭНЕРГИИ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1" descr="10.jpg"/>
          <p:cNvPicPr/>
          <p:nvPr/>
        </p:nvPicPr>
        <p:blipFill>
          <a:blip r:embed="rId1"/>
          <a:srcRect l="1978" t="0" r="1775" b="4429"/>
          <a:stretch/>
        </p:blipFill>
        <p:spPr>
          <a:xfrm>
            <a:off x="4356000" y="2997360"/>
            <a:ext cx="4579920" cy="3409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71640" y="1557360"/>
            <a:ext cx="63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общее число трофических уровней редко превышает три – четыре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213000"/>
            <a:ext cx="396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ри энергии при переходе с одного трофического уровня на другой определяют количество этих уровней и соотношение численности хищников и жертв. Подсчитано, что на любой трофический уровень поступает лишь около 10% энергии предыдущего уровня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84596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АМИДЫ ЧИСЛЕННОСТИ И БИОМАС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численность отдельных организмов на каждом уровне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9746" t="27618" r="41811" b="35423"/>
          <a:stretch/>
        </p:blipFill>
        <p:spPr>
          <a:xfrm>
            <a:off x="4932360" y="3290760"/>
            <a:ext cx="399240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4365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экологической пирамиды: чем выше уровень, тем ниже общая биомасса и численность составляющих ее организмов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5653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биомасс – соотношение масс организмов разных трофических уровней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8964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ВЕРНУТ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в природе появляются перевернутые пирамиды численности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60224" t="27618" r="14383" b="35423"/>
          <a:stretch/>
        </p:blipFill>
        <p:spPr>
          <a:xfrm>
            <a:off x="179280" y="119700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3860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только плотность организмов на каждом трофическом уровне, но не скорость самообразования организмов, поэтому пирамиды могут быть перевернутыми, т.е. плотность организмов в данный конкретный момент времени на низком трофическом уровне может быть ниже, чем плотность организмов на высоком уровне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5:31:11Z</dcterms:created>
  <dc:creator>Admin</dc:creator>
  <dc:description/>
  <dc:language>en-US</dc:language>
  <cp:lastModifiedBy>Admin</cp:lastModifiedBy>
  <dcterms:modified xsi:type="dcterms:W3CDTF">2013-03-04T16:07:43Z</dcterms:modified>
  <cp:revision>12</cp:revision>
  <dc:subject>урок</dc:subject>
  <dc:title>Слайд 1</dc:title>
</cp:coreProperties>
</file>